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898-1984-4D09-A625-68579F4F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0EB-0B0F-443B-914A-254B9427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891-89EE-4D9E-A145-C1E211BD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EAF-4B4C-4DAB-931D-118FF356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6C5-4E92-4A23-93D5-C9C4FD6D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3BAD-F652-482F-ADB8-535846B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316-B65E-4913-B16D-F09422F1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4D9-24B2-42E1-9BD5-7C47980D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B1E-301B-48DF-ADB6-5C6E4CCB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348-18BB-46C5-B4BE-7773D9D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958-181C-4A8B-A810-D8C32A6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A2C-A91E-4B5F-8C5D-870F197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60A-90C0-427B-8DEC-805885541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Counting in 10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82090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0:50:16Z</dcterms:created>
  <dc:creator>TEACHER</dc:creator>
  <dc:description/>
  <dc:language>en-US</dc:language>
  <cp:lastModifiedBy>Staff</cp:lastModifiedBy>
  <dcterms:modified xsi:type="dcterms:W3CDTF">2007-01-17T07:40:27Z</dcterms:modified>
  <cp:revision>1</cp:revision>
  <dc:subject/>
  <dc:title>Counting in 10s</dc:title>
</cp:coreProperties>
</file>