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988-05E9-4F99-A6D6-0EBE3E67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AF4-2E19-4176-931F-096ED5E8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963-A5B1-4F0C-9BC5-7D25576E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B4D-942A-4614-BF2A-F9D9C062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403-DD13-4FC9-80C6-440B09C6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CE7-8E4F-4543-A105-47247646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696-3482-4819-B965-E6FCE21E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C96-0CF3-4EC9-A398-C3901EEF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840-70AA-47F9-8008-1889CCC7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D74-64C1-446B-893A-13EBF278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6B36-07F2-4E06-9DA4-94DD86D3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8C0-A97A-4270-ABD0-BAF28E9C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4968-EFDF-4CE7-9624-72846FF0F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to 2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TEACHER</cp:lastModifiedBy>
  <dcterms:modified xsi:type="dcterms:W3CDTF">2008-05-29T09:12:42Z</dcterms:modified>
  <cp:revision>3</cp:revision>
  <dc:subject/>
  <dc:title>Counting to 25!</dc:title>
</cp:coreProperties>
</file>