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E72C-D367-4C22-8741-14369B22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7A2-BA22-4ED4-853F-F93B2DD9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5701-77AD-4C3D-A574-62D7CC90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CC9-C5BE-4304-BD6C-A4B7891D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D43-A847-4530-B24E-28610501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CE24-0582-4881-BFAA-1D0C525D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756-39C1-46EA-9A86-10C4D7DF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C25-B742-465B-A148-6CFF6646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F6D-2EDD-4323-A184-6D422444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DFBF-58B1-4FA2-ADB5-B5074BA4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0419-950E-405D-99D6-3811BCA5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BC9-0522-4591-ACB7-0883A1FF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98AB-763B-4E3F-89D3-428A2752A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214098.wav" TargetMode="External"/><Relationship Id="rId2" Type="http://schemas.microsoft.com/office/2007/relationships/media" Target="file:///tmp/home/.config/libreoffice/4/user/gallery/j021409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Counting 10 and back to 0! 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5761080"/>
            <a:ext cx="9144000" cy="18380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189000"/>
            <a:ext cx="66247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0" spc="-1" strike="noStrike">
                <a:solidFill>
                  <a:srgbClr val="ffffff"/>
                </a:solidFill>
                <a:latin typeface="Arial"/>
              </a:rPr>
              <a:t>Well done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5:34:36Z</dcterms:created>
  <dc:creator>TEACHER</dc:creator>
  <dc:description/>
  <dc:language>en-US</dc:language>
  <cp:lastModifiedBy>TEACHER</cp:lastModifiedBy>
  <dcterms:modified xsi:type="dcterms:W3CDTF">2005-11-30T15:40:24Z</dcterms:modified>
  <cp:revision>1</cp:revision>
  <dc:subject/>
  <dc:title>Counting 10 and back to 0!  </dc:title>
</cp:coreProperties>
</file>