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C93-F55A-477E-B5F1-D2957336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4C4-13AA-4655-9276-68DFCA91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708-872E-473B-B0F5-FB40F8BB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7BC-D925-432A-A04C-6AEAF017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F18-0CC8-48D6-AC3E-89CD733B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C73-81CA-4A7E-ABBB-D0C959C8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A46-5302-48C5-98E1-9556EE8B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20B-03AF-4F19-B1E3-66CDC86C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36F-946C-49F4-A704-AAFBAAA0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F66-45C5-4249-B4EA-982B1E9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EEF-6D55-48D3-A3A5-AEC5817E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693-FC37-4BFC-9C41-6B455B8D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4495-7B65-417F-8901-8287ED3F9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in 2s to 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16:52:09Z</dcterms:created>
  <dc:creator>TEACHER</dc:creator>
  <dc:description/>
  <dc:language>en-US</dc:language>
  <cp:lastModifiedBy>TEACHER</cp:lastModifiedBy>
  <dcterms:modified xsi:type="dcterms:W3CDTF">2005-11-19T16:52:36Z</dcterms:modified>
  <cp:revision>1</cp:revision>
  <dc:subject/>
  <dc:title>Counting in 2s to 20</dc:title>
</cp:coreProperties>
</file>