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DB8-8676-4939-AAF9-D693A83A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4DF-A3C3-4AF1-A7FD-8C52996E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F29-60DD-475A-B095-A0765142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31A-3DB1-4CAE-B4F6-9916059D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831-9BC9-4342-A9FD-FB5336E6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15E-778D-4E1B-92FE-31FB57D3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718-806E-4813-AC43-81663DA7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517-6EB6-425C-9CB0-E9BC7B12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520-4A8C-424F-B48C-EA5585A7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70E-4D9A-44AB-94E4-F9BF2BE2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A77-AA51-4F93-A5F1-F22F9539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908-7DDD-4151-A1B9-C3B45136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3C30-915C-44A6-AA04-64DF19804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to 2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Staff</cp:lastModifiedBy>
  <dcterms:modified xsi:type="dcterms:W3CDTF">2006-01-09T15:36:48Z</dcterms:modified>
  <cp:revision>1</cp:revision>
  <dc:subject/>
  <dc:title>Counting to 25!</dc:title>
</cp:coreProperties>
</file>