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589-B171-44A8-9522-AC9A9CD6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B91-38FA-405A-A6F9-8EF42B01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63B-9580-423F-ABFD-5BDB37B8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5C1-4291-4115-908C-21F440E9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72A-4A15-41F9-9754-A2EF1B4F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95A-C5B5-41A1-A022-9D238FC4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519-6D59-4E8F-ACEB-4007B6B7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A32-6D3E-4632-B1D2-6D63AC72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2F6-B5FA-4333-83FA-ED1DA181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6AFB-7095-46F1-8B8F-B6E19950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FE0-9EC0-481B-9104-2A3A9542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170-C336-41E6-BCA8-101CA85B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8DA8-09E4-4B79-A001-9288E3BFE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Counting in 10s to 10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0:04:09Z</dcterms:created>
  <dc:creator>TEACHER</dc:creator>
  <dc:description/>
  <dc:language>en-US</dc:language>
  <cp:lastModifiedBy>Staff</cp:lastModifiedBy>
  <dcterms:modified xsi:type="dcterms:W3CDTF">2006-01-30T07:49:27Z</dcterms:modified>
  <cp:revision>1</cp:revision>
  <dc:subject/>
  <dc:title>Counting in 10s to 100!</dc:title>
</cp:coreProperties>
</file>