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CF6-D25F-470E-898E-E25F9D44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C70-9CCA-434E-BF5B-F02FEA5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902-A557-4783-8DD7-F0E1D7FE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750-0C40-481B-9475-B3B72C9B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7E0-D36C-4EAD-AAB8-21D6100F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4EC-3520-4B6C-83FF-0F5953B5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9A4-1284-4498-847D-CDD63E22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65A-3009-4B4A-98F4-745B4C21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666-495D-43E9-A33B-D58C166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DAF-5C2B-423E-BF3B-9731611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8DE-7344-4A77-B6D4-31824B3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D83-646F-47A8-ADD1-4B60FB6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F442-432A-413C-BFEF-527AB845B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ounting d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7:51:06Z</dcterms:created>
  <dc:creator>Staff</dc:creator>
  <dc:description/>
  <dc:language>en-US</dc:language>
  <cp:lastModifiedBy>Staff</cp:lastModifiedBy>
  <dcterms:modified xsi:type="dcterms:W3CDTF">2005-11-24T07:56:11Z</dcterms:modified>
  <cp:revision>1</cp:revision>
  <dc:subject/>
  <dc:title>Counting down</dc:title>
</cp:coreProperties>
</file>