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7DC-652C-4662-8F91-9B6D1AF1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F7F-B95F-4263-AD04-EBF212E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70D-4B02-4B5A-A222-F6A62C3A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AFA-8BDF-46D0-B1F1-B9A5A68D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0CA-117B-4EF3-9E87-18FEB240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F93-857D-454A-8411-1AFD0DD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878-57A7-4B9A-B254-44CEE55D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1DA-69B8-4DBB-81A3-9D7087B9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95B-CA87-4B9F-9BF4-E7EEA330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251-2BB2-48FA-883E-157C81AA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396-C4F6-4C4B-BED4-916EFB8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056-6447-4E83-AB21-D586AA7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74C-29F4-4A27-B399-4B0009247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99ffcc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99ffcc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74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6-01-23T07:56:05Z</dcterms:modified>
  <cp:revision>2</cp:revision>
  <dc:subject/>
  <dc:title>Counting down! </dc:title>
</cp:coreProperties>
</file>