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24C-63D8-4C5D-B5D2-68218905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9C0-C61E-4FB5-BA3C-A092ECFA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BD0-DB1B-4F3A-B6EA-4BE5F619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381B-2443-4370-9E12-1B7B4811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E6F-3033-4FC0-BDD5-1AD16380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EC0-43BC-46A9-AB43-635F9BA3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089-F3C1-4581-8897-023B98C8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BBD-8F36-453E-8F8C-B7209B35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113-409F-4D69-8E17-2E4E76D2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00F-ADA9-4F93-BA54-1110FFE4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F18-F66F-4345-BAF1-2A46A288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148-73AD-4867-9D20-70CB1A43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C42B-ECE3-4378-B3B6-1BBBEF11C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to 2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1:50:50Z</dcterms:created>
  <dc:creator>TEACHER</dc:creator>
  <dc:description/>
  <dc:language>en-US</dc:language>
  <cp:lastModifiedBy>Staff</cp:lastModifiedBy>
  <dcterms:modified xsi:type="dcterms:W3CDTF">2006-02-21T08:35:54Z</dcterms:modified>
  <cp:revision>2</cp:revision>
  <dc:subject/>
  <dc:title>Counting to 25!</dc:title>
</cp:coreProperties>
</file>