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F1C1-1DDE-4344-BD8E-787614C0B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3875-7123-4BE2-9BBE-4A42BDC9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AAA4-7B8F-4992-9F8D-DE6FEFBED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66FE-F878-40C4-8892-DB6A5B4ED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E88C-6BAB-49D2-8E89-418C8EF2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E25D-BFDE-4661-A8D1-F16C9028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B3CB-1684-40F6-A0C2-A5356894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381F-8521-4C24-AD80-F96DA7B98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480F-AD45-4184-B43A-EAC0886A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5111-7883-4DFB-817A-67802E20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3AEA-7581-4B69-BDC7-91EC9B78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9CF9-1344-4C4C-891B-AD822FF6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8D1D-E614-4D24-896B-531BBC471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9900"/>
                </a:solidFill>
                <a:latin typeface="Arial"/>
              </a:rPr>
              <a:t>Counting down!</a:t>
            </a:r>
            <a:r>
              <a:rPr b="0" lang="en-GB" sz="7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9900"/>
                </a:solidFill>
                <a:latin typeface="Arial"/>
              </a:rPr>
              <a:t>7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9900"/>
                </a:solidFill>
                <a:latin typeface="Arial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9900"/>
                </a:solidFill>
                <a:latin typeface="Arial"/>
              </a:rPr>
              <a:t>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9900"/>
                </a:solidFill>
                <a:latin typeface="Arial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9900"/>
                </a:solidFill>
                <a:latin typeface="Arial"/>
              </a:rPr>
              <a:t>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9900"/>
                </a:solidFill>
                <a:latin typeface="Arial"/>
              </a:rPr>
              <a:t>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5761080"/>
            <a:ext cx="9144000" cy="18380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92360" y="189000"/>
            <a:ext cx="662472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009900"/>
                </a:solidFill>
                <a:latin typeface="Arial"/>
              </a:rPr>
              <a:t>Well done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0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9900"/>
                </a:solidFill>
                <a:latin typeface="Arial"/>
              </a:rPr>
              <a:t>1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9900"/>
                </a:solidFill>
                <a:latin typeface="Arial"/>
              </a:rPr>
              <a:t>1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9900"/>
                </a:solidFill>
                <a:latin typeface="Arial"/>
              </a:rPr>
              <a:t>1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9900"/>
                </a:solidFill>
                <a:latin typeface="Arial"/>
              </a:rPr>
              <a:t>1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9900"/>
                </a:solidFill>
                <a:latin typeface="Arial"/>
              </a:rPr>
              <a:t>1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9900"/>
                </a:solidFill>
                <a:latin typeface="Arial"/>
              </a:rPr>
              <a:t>1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9900"/>
                </a:solidFill>
                <a:latin typeface="Arial"/>
              </a:rPr>
              <a:t>9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9900"/>
                </a:solidFill>
                <a:latin typeface="Arial"/>
              </a:rPr>
              <a:t>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12:25:31Z</dcterms:created>
  <dc:creator>TEACHER</dc:creator>
  <dc:description/>
  <dc:language>en-US</dc:language>
  <cp:lastModifiedBy>Staff</cp:lastModifiedBy>
  <dcterms:modified xsi:type="dcterms:W3CDTF">2005-12-12T08:17:50Z</dcterms:modified>
  <cp:revision>1</cp:revision>
  <dc:subject/>
  <dc:title>Counting down! </dc:title>
</cp:coreProperties>
</file>