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12B-CF78-42F6-8DB3-77D45ACB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EE1-F573-4F7A-A26D-FA8CDDD0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DB1-E1B9-4430-86FA-18B68932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F75-1204-45C0-9F0C-C1CBAB58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F82-2778-4B4D-A92F-E9DA5C61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AF4-66A9-451E-B4D3-C247743C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AB2-5FB6-406C-89A7-6279443D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85E-3124-4682-B2BB-EE542D30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4F3-D651-4D45-836F-21F3816E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AFED-650F-496B-9682-B615F4BA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702-5DFC-42E6-AA58-E61847F1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89E-BAD6-42FE-A0D8-43D07D34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20CB-4DAB-413F-9050-01F0DB79F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to 10 and back to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592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7:57:38Z</dcterms:created>
  <dc:creator>Staff</dc:creator>
  <dc:description/>
  <dc:language>en-US</dc:language>
  <cp:lastModifiedBy>Staff</cp:lastModifiedBy>
  <dcterms:modified xsi:type="dcterms:W3CDTF">2005-12-05T08:02:24Z</dcterms:modified>
  <cp:revision>1</cp:revision>
  <dc:subject/>
  <dc:title>Counting to 10 and back to 0!</dc:title>
</cp:coreProperties>
</file>