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C31-D4CF-40F4-8014-ABDF9932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9B0-6073-401B-B6AA-D80018A0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4AD8-AC7E-43FF-9EDB-0A4142EC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7ED-66C8-46A9-A1B5-4374462D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23B-BC83-4ECA-BE59-E73EE0DF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015-5721-4F71-8196-F8B6B69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919-673E-49A5-B084-118632CE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C02-448F-4F11-9317-6F416963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26C-F223-446C-A75C-E7CE8C6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13C-A09F-4BEF-834C-54FD20B2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4B3-4C13-429C-86D9-485E3C21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4C9-FB39-4B1F-BCB5-03559AF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F3A3-E902-4072-8E1E-84A075A4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3s to 3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21:50:50Z</dcterms:created>
  <dc:creator>TEACHER</dc:creator>
  <dc:description/>
  <dc:language>en-US</dc:language>
  <cp:lastModifiedBy>TEACHER</cp:lastModifiedBy>
  <dcterms:modified xsi:type="dcterms:W3CDTF">2008-05-29T09:15:16Z</dcterms:modified>
  <cp:revision>4</cp:revision>
  <dc:subject/>
  <dc:title>Counting to 25!</dc:title>
</cp:coreProperties>
</file>